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0FB-E8A0-4675-B838-196E746E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537-593B-422C-AB51-585E181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259-7652-4049-B0B3-4320733B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94D-CFF4-4268-B745-76F4AA01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949-CED6-4A18-9E17-CEFB89E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351-D860-4B81-A6D0-E23B463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D89-27EF-4E7F-BADE-FA9E8FDF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E6B-0121-4FCD-8576-4989055D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0BB-8875-4B01-AEA8-7C4B1C0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114-80EF-4CD1-A99B-DBEC3F8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512-2289-4C35-A188-EFEE145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AC2-8A19-4979-91E3-05DD31C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E2A-BC2C-470B-9235-60472902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90080" cy="6902280"/>
            <a:chOff x="0" y="0"/>
            <a:chExt cx="9190080" cy="69022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90080" cy="7632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6320"/>
              <a:ext cx="9190080" cy="5868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35000"/>
              <a:ext cx="9190080" cy="7596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10960"/>
              <a:ext cx="9190080" cy="7632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87280"/>
              <a:ext cx="9190080" cy="76320"/>
            </a:xfrm>
            <a:prstGeom prst="rect">
              <a:avLst/>
            </a:prstGeom>
            <a:solidFill>
              <a:srgbClr val="606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600"/>
              <a:ext cx="9190080" cy="58680"/>
            </a:xfrm>
            <a:prstGeom prst="rect">
              <a:avLst/>
            </a:prstGeom>
            <a:solidFill>
              <a:srgbClr val="606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22280"/>
              <a:ext cx="9190080" cy="7632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98600"/>
              <a:ext cx="9190080" cy="7596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4560"/>
              <a:ext cx="9190080" cy="77760"/>
            </a:xfrm>
            <a:prstGeom prst="rect">
              <a:avLst/>
            </a:prstGeom>
            <a:solidFill>
              <a:srgbClr val="626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2320"/>
              <a:ext cx="9190080" cy="57240"/>
            </a:xfrm>
            <a:prstGeom prst="rect">
              <a:avLst/>
            </a:prstGeom>
            <a:solidFill>
              <a:srgbClr val="63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709560"/>
              <a:ext cx="9190080" cy="76320"/>
            </a:xfrm>
            <a:prstGeom prst="rect">
              <a:avLst/>
            </a:prstGeom>
            <a:solidFill>
              <a:srgbClr val="64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785880"/>
              <a:ext cx="9190080" cy="75960"/>
            </a:xfrm>
            <a:prstGeom prst="rect">
              <a:avLst/>
            </a:prstGeom>
            <a:solidFill>
              <a:srgbClr val="656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861840"/>
              <a:ext cx="9190080" cy="7812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939960"/>
              <a:ext cx="9190080" cy="5688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96840"/>
              <a:ext cx="9190080" cy="76320"/>
            </a:xfrm>
            <a:prstGeom prst="rect">
              <a:avLst/>
            </a:prstGeom>
            <a:solidFill>
              <a:srgbClr val="676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073160"/>
              <a:ext cx="9190080" cy="77760"/>
            </a:xfrm>
            <a:prstGeom prst="rect">
              <a:avLst/>
            </a:prstGeom>
            <a:solidFill>
              <a:srgbClr val="696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150920"/>
              <a:ext cx="9190080" cy="76320"/>
            </a:xfrm>
            <a:prstGeom prst="rect">
              <a:avLst/>
            </a:prstGeom>
            <a:solidFill>
              <a:srgbClr val="6a6a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227240"/>
              <a:ext cx="9190080" cy="56880"/>
            </a:xfrm>
            <a:prstGeom prst="rect">
              <a:avLst/>
            </a:prstGeom>
            <a:solidFill>
              <a:srgbClr val="6b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84120"/>
              <a:ext cx="9190080" cy="76320"/>
            </a:xfrm>
            <a:prstGeom prst="rect">
              <a:avLst/>
            </a:prstGeom>
            <a:solidFill>
              <a:srgbClr val="6c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360440"/>
              <a:ext cx="9190080" cy="77760"/>
            </a:xfrm>
            <a:prstGeom prst="rect">
              <a:avLst/>
            </a:prstGeom>
            <a:solidFill>
              <a:srgbClr val="6d6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438200"/>
              <a:ext cx="9190080" cy="76320"/>
            </a:xfrm>
            <a:prstGeom prst="rect">
              <a:avLst/>
            </a:prstGeom>
            <a:solidFill>
              <a:srgbClr val="6f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514520"/>
              <a:ext cx="9190080" cy="57240"/>
            </a:xfrm>
            <a:prstGeom prst="rect">
              <a:avLst/>
            </a:prstGeom>
            <a:solidFill>
              <a:srgbClr val="707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71760"/>
              <a:ext cx="9190080" cy="77760"/>
            </a:xfrm>
            <a:prstGeom prst="rect">
              <a:avLst/>
            </a:prstGeom>
            <a:solidFill>
              <a:srgbClr val="717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649520"/>
              <a:ext cx="9190080" cy="75960"/>
            </a:xfrm>
            <a:prstGeom prst="rect">
              <a:avLst/>
            </a:prstGeom>
            <a:solidFill>
              <a:srgbClr val="73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725480"/>
              <a:ext cx="9190080" cy="76320"/>
            </a:xfrm>
            <a:prstGeom prst="rect">
              <a:avLst/>
            </a:prstGeom>
            <a:solidFill>
              <a:srgbClr val="74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801800"/>
              <a:ext cx="9190080" cy="57240"/>
            </a:xfrm>
            <a:prstGeom prst="rect">
              <a:avLst/>
            </a:prstGeom>
            <a:solidFill>
              <a:srgbClr val="76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859040"/>
              <a:ext cx="9190080" cy="77760"/>
            </a:xfrm>
            <a:prstGeom prst="rect">
              <a:avLst/>
            </a:prstGeom>
            <a:solidFill>
              <a:srgbClr val="77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936800"/>
              <a:ext cx="9190080" cy="76320"/>
            </a:xfrm>
            <a:prstGeom prst="rect">
              <a:avLst/>
            </a:pr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013120"/>
              <a:ext cx="9190080" cy="75960"/>
            </a:xfrm>
            <a:prstGeom prst="rect">
              <a:avLst/>
            </a:prstGeom>
            <a:solidFill>
              <a:srgbClr val="7b7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089080"/>
              <a:ext cx="9190080" cy="58680"/>
            </a:xfrm>
            <a:prstGeom prst="rect">
              <a:avLst/>
            </a:prstGeom>
            <a:solidFill>
              <a:srgbClr val="7c7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147760"/>
              <a:ext cx="9190080" cy="76320"/>
            </a:xfrm>
            <a:prstGeom prst="rect">
              <a:avLst/>
            </a:prstGeom>
            <a:solidFill>
              <a:srgbClr val="7e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2224080"/>
              <a:ext cx="9190080" cy="763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300400"/>
              <a:ext cx="9190080" cy="77760"/>
            </a:xfrm>
            <a:prstGeom prst="rect">
              <a:avLst/>
            </a:prstGeom>
            <a:solidFill>
              <a:srgbClr val="81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378160"/>
              <a:ext cx="9190080" cy="57240"/>
            </a:xfrm>
            <a:prstGeom prst="rect">
              <a:avLst/>
            </a:prstGeom>
            <a:solidFill>
              <a:srgbClr val="848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435400"/>
              <a:ext cx="9190080" cy="75960"/>
            </a:xfrm>
            <a:prstGeom prst="rect">
              <a:avLst/>
            </a:prstGeom>
            <a:solidFill>
              <a:srgbClr val="858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511360"/>
              <a:ext cx="9190080" cy="76320"/>
            </a:xfrm>
            <a:prstGeom prst="rect">
              <a:avLst/>
            </a:prstGeom>
            <a:solidFill>
              <a:srgbClr val="878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87680"/>
              <a:ext cx="9190080" cy="77760"/>
            </a:xfrm>
            <a:prstGeom prst="rect">
              <a:avLst/>
            </a:prstGeom>
            <a:solidFill>
              <a:srgbClr val="89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665440"/>
              <a:ext cx="9190080" cy="57240"/>
            </a:xfrm>
            <a:prstGeom prst="rect">
              <a:avLst/>
            </a:prstGeom>
            <a:solidFill>
              <a:srgbClr val="8a8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722680"/>
              <a:ext cx="9190080" cy="75960"/>
            </a:xfrm>
            <a:prstGeom prst="rect">
              <a:avLst/>
            </a:prstGeom>
            <a:solidFill>
              <a:srgbClr val="8d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2798640"/>
              <a:ext cx="9190080" cy="77760"/>
            </a:xfrm>
            <a:prstGeom prst="rect">
              <a:avLst/>
            </a:prstGeom>
            <a:solidFill>
              <a:srgbClr val="8f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876400"/>
              <a:ext cx="9190080" cy="76320"/>
            </a:xfrm>
            <a:prstGeom prst="rect">
              <a:avLst/>
            </a:prstGeom>
            <a:solidFill>
              <a:srgbClr val="919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2952720"/>
              <a:ext cx="9190080" cy="57240"/>
            </a:xfrm>
            <a:prstGeom prst="rect">
              <a:avLst/>
            </a:prstGeom>
            <a:solidFill>
              <a:srgbClr val="9292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009960"/>
              <a:ext cx="9190080" cy="76320"/>
            </a:xfrm>
            <a:prstGeom prst="rect">
              <a:avLst/>
            </a:prstGeom>
            <a:solidFill>
              <a:srgbClr val="94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086280"/>
              <a:ext cx="9190080" cy="77760"/>
            </a:xfrm>
            <a:prstGeom prst="rect">
              <a:avLst/>
            </a:prstGeom>
            <a:solidFill>
              <a:srgbClr val="96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64040"/>
              <a:ext cx="9190080" cy="75960"/>
            </a:xfrm>
            <a:prstGeom prst="rect">
              <a:avLst/>
            </a:prstGeom>
            <a:solidFill>
              <a:srgbClr val="989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240000"/>
              <a:ext cx="9190080" cy="57240"/>
            </a:xfrm>
            <a:prstGeom prst="rect">
              <a:avLst/>
            </a:prstGeom>
            <a:solidFill>
              <a:srgbClr val="9a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297240"/>
              <a:ext cx="9190080" cy="7776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375000"/>
              <a:ext cx="9190080" cy="76320"/>
            </a:xfrm>
            <a:prstGeom prst="rect">
              <a:avLst/>
            </a:prstGeom>
            <a:solidFill>
              <a:srgbClr val="9d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451320"/>
              <a:ext cx="9190080" cy="75960"/>
            </a:xfrm>
            <a:prstGeom prst="rect">
              <a:avLst/>
            </a:prstGeom>
            <a:solidFill>
              <a:srgbClr val="9f9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527280"/>
              <a:ext cx="9190080" cy="5724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584520"/>
              <a:ext cx="9190080" cy="77760"/>
            </a:xfrm>
            <a:prstGeom prst="rect">
              <a:avLst/>
            </a:prstGeom>
            <a:solidFill>
              <a:srgbClr val="a3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662280"/>
              <a:ext cx="9190080" cy="76320"/>
            </a:xfrm>
            <a:prstGeom prst="rect">
              <a:avLst/>
            </a:prstGeom>
            <a:solidFill>
              <a:srgbClr val="a5a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738600"/>
              <a:ext cx="9190080" cy="76320"/>
            </a:xfrm>
            <a:prstGeom prst="rect">
              <a:avLst/>
            </a:prstGeom>
            <a:solidFill>
              <a:srgbClr val="a7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814920"/>
              <a:ext cx="9190080" cy="58680"/>
            </a:xfrm>
            <a:prstGeom prst="rect">
              <a:avLst/>
            </a:prstGeom>
            <a:solidFill>
              <a:srgbClr val="a8a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873600"/>
              <a:ext cx="9190080" cy="75960"/>
            </a:xfrm>
            <a:prstGeom prst="rect">
              <a:avLst/>
            </a:prstGeom>
            <a:solidFill>
              <a:srgbClr val="aaa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49560"/>
              <a:ext cx="9190080" cy="76320"/>
            </a:xfrm>
            <a:prstGeom prst="rect">
              <a:avLst/>
            </a:prstGeom>
            <a:solidFill>
              <a:srgbClr val="ab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025880"/>
              <a:ext cx="9190080" cy="7632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102200"/>
              <a:ext cx="9190080" cy="58680"/>
            </a:xfrm>
            <a:prstGeom prst="rect">
              <a:avLst/>
            </a:prstGeom>
            <a:solidFill>
              <a:srgbClr val="aea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160880"/>
              <a:ext cx="9190080" cy="7632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37200"/>
              <a:ext cx="9190080" cy="75960"/>
            </a:xfrm>
            <a:prstGeom prst="rect">
              <a:avLst/>
            </a:prstGeom>
            <a:solidFill>
              <a:srgbClr val="b1b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13160"/>
              <a:ext cx="9190080" cy="77760"/>
            </a:xfrm>
            <a:prstGeom prst="rect">
              <a:avLst/>
            </a:prstGeom>
            <a:solidFill>
              <a:srgbClr val="b3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390920"/>
              <a:ext cx="9190080" cy="57240"/>
            </a:xfrm>
            <a:prstGeom prst="rect">
              <a:avLst/>
            </a:pr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448160"/>
              <a:ext cx="9190080" cy="7632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524480"/>
              <a:ext cx="9190080" cy="7596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600440"/>
              <a:ext cx="9190080" cy="77760"/>
            </a:xfrm>
            <a:prstGeom prst="rect">
              <a:avLst/>
            </a:prstGeom>
            <a:solidFill>
              <a:srgbClr val="b8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678200"/>
              <a:ext cx="9190080" cy="57240"/>
            </a:xfrm>
            <a:prstGeom prst="rect">
              <a:avLst/>
            </a:prstGeom>
            <a:solidFill>
              <a:srgbClr val="b9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735440"/>
              <a:ext cx="9190080" cy="76320"/>
            </a:xfrm>
            <a:prstGeom prst="rect">
              <a:avLst/>
            </a:prstGeom>
            <a:solidFill>
              <a:srgbClr val="ba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811760"/>
              <a:ext cx="9190080" cy="7776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889520"/>
              <a:ext cx="9190080" cy="76320"/>
            </a:xfrm>
            <a:prstGeom prst="rect">
              <a:avLst/>
            </a:prstGeom>
            <a:solidFill>
              <a:srgbClr val="bcb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965840"/>
              <a:ext cx="9190080" cy="56880"/>
            </a:xfrm>
            <a:prstGeom prst="rect">
              <a:avLst/>
            </a:prstGeom>
            <a:solidFill>
              <a:srgbClr val="bd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022720"/>
              <a:ext cx="9190080" cy="76320"/>
            </a:xfrm>
            <a:prstGeom prst="rect">
              <a:avLst/>
            </a:prstGeom>
            <a:solidFill>
              <a:srgbClr val="be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5099040"/>
              <a:ext cx="9190080" cy="77760"/>
            </a:xfrm>
            <a:prstGeom prst="rect">
              <a:avLst/>
            </a:prstGeom>
            <a:solidFill>
              <a:srgbClr val="bfb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176800"/>
              <a:ext cx="9190080" cy="7632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253120"/>
              <a:ext cx="9190080" cy="5724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310360"/>
              <a:ext cx="9190080" cy="77760"/>
            </a:xfrm>
            <a:prstGeom prst="rect">
              <a:avLst/>
            </a:prstGeom>
            <a:solidFill>
              <a:srgbClr val="c2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388120"/>
              <a:ext cx="9190080" cy="75960"/>
            </a:xfrm>
            <a:prstGeom prst="rect">
              <a:avLst/>
            </a:prstGeom>
            <a:solidFill>
              <a:srgbClr val="c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464080"/>
              <a:ext cx="9190080" cy="7632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540400"/>
              <a:ext cx="9190080" cy="57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597640"/>
              <a:ext cx="9190080" cy="7776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675400"/>
              <a:ext cx="9190080" cy="75960"/>
            </a:xfrm>
            <a:prstGeom prst="rect">
              <a:avLst/>
            </a:prstGeom>
            <a:solidFill>
              <a:srgbClr val="c5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751360"/>
              <a:ext cx="9190080" cy="76320"/>
            </a:xfrm>
            <a:prstGeom prst="rect">
              <a:avLst/>
            </a:prstGeom>
            <a:solidFill>
              <a:srgbClr val="c6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827680"/>
              <a:ext cx="9190080" cy="5868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886360"/>
              <a:ext cx="9190080" cy="7632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62680"/>
              <a:ext cx="9190080" cy="7632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039000"/>
              <a:ext cx="9190080" cy="7776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116760"/>
              <a:ext cx="9190080" cy="56880"/>
            </a:xfrm>
            <a:prstGeom prst="rect">
              <a:avLst/>
            </a:prstGeom>
            <a:solidFill>
              <a:srgbClr val="c8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173640"/>
              <a:ext cx="9190080" cy="7632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249960"/>
              <a:ext cx="9190080" cy="7632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26280"/>
              <a:ext cx="9190080" cy="77760"/>
            </a:xfrm>
            <a:prstGeom prst="rect">
              <a:avLst/>
            </a:prstGeom>
            <a:solidFill>
              <a:srgbClr val="ca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04040"/>
              <a:ext cx="9190080" cy="57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61280"/>
              <a:ext cx="9190080" cy="759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537240"/>
              <a:ext cx="9190080" cy="777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615000"/>
              <a:ext cx="9190080" cy="7632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691320"/>
              <a:ext cx="9190080" cy="57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748560"/>
              <a:ext cx="9190080" cy="759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824520"/>
              <a:ext cx="9190080" cy="777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52640" y="268200"/>
            <a:ext cx="3484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5600" y="326880"/>
            <a:ext cx="328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6640" y="1303200"/>
            <a:ext cx="3823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9800" y="3700440"/>
            <a:ext cx="365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5280" y="3776760"/>
            <a:ext cx="55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00680" y="3297240"/>
            <a:ext cx="3254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35480" y="1930320"/>
            <a:ext cx="6451560" cy="3276720"/>
            <a:chOff x="1635480" y="1930320"/>
            <a:chExt cx="6451560" cy="3276720"/>
          </a:xfrm>
        </p:grpSpPr>
        <p:sp>
          <p:nvSpPr>
            <p:cNvPr id="145" name=""/>
            <p:cNvSpPr/>
            <p:nvPr/>
          </p:nvSpPr>
          <p:spPr>
            <a:xfrm>
              <a:off x="1676520" y="2387520"/>
              <a:ext cx="495288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52720" y="2235240"/>
              <a:ext cx="153720" cy="2895120"/>
              <a:chOff x="3852720" y="2235240"/>
              <a:chExt cx="153720" cy="28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3852720" y="2235240"/>
                <a:ext cx="153720" cy="18014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852720" y="4036680"/>
                <a:ext cx="153720" cy="1093680"/>
                <a:chOff x="3852720" y="4036680"/>
                <a:chExt cx="153720" cy="1093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852720" y="4036680"/>
                  <a:ext cx="153720" cy="10936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52720" y="41331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52720" y="42094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2720" y="42858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52720" y="436356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852720" y="44395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52720" y="451584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52720" y="45936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52720" y="466992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852720" y="47462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852720" y="48240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2720" y="48999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52720" y="49762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52720" y="50540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4266000" y="1930320"/>
              <a:ext cx="186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 DE OBSERVA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92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5207040"/>
              <a:ext cx="417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3388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9210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0160" y="281484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0" y="43974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291200"/>
              <a:ext cx="282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ranurada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2960" y="3681360"/>
              <a:ext cx="53640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5480" y="3406680"/>
              <a:ext cx="1632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Espacio anular relle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         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ravilla seleccio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6:32:09Z</dcterms:created>
  <dc:creator>CParragu</dc:creator>
  <dc:description/>
  <dc:language>en-US</dc:language>
  <cp:lastModifiedBy>CParragu</cp:lastModifiedBy>
  <dcterms:modified xsi:type="dcterms:W3CDTF">2003-04-03T16:49:09Z</dcterms:modified>
  <cp:revision>2</cp:revision>
  <dc:subject/>
  <dc:title>Sin título de diapositiva</dc:title>
</cp:coreProperties>
</file>